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48E0-CAC6-487E-A4DC-861551FF75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154E-0A62-4265-AAE9-34B7205B36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9776-60A4-4318-9EFE-B60B864ADE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931F-878E-4632-AA60-FA0B21E782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7896-634B-4572-A0B8-74167041C2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2AB9-BA49-4933-A722-E4B4FE905A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840-BCA0-4EF4-A1D3-2EC6BDBD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62B-7889-4767-B5C0-4EFEACC7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D39-1A1F-4CF3-B5E0-B0E0F825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44B-BF32-450D-91A9-9D0335C9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B2D-4E13-485B-9724-19ABDBDE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2DE-34F8-44AD-95B7-47B9FC10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115-9AEC-4BBA-8835-5A4F8E81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677-26EB-4394-9EFF-18439903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4AA-D90D-4531-B1B5-50779794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83D-963E-4087-9E76-C2B292E8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EDC-6D9C-4AEA-8431-E8B1C79B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D14-0777-47D5-B3AB-583CC0AC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6927-0926-49AF-9881-7FAF73D51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8.png"/><Relationship Id="rId5" Type="http://schemas.openxmlformats.org/officeDocument/2006/relationships/image" Target="../media/image19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hyperlink" Target="http://i073.radikal.ru/1009/08/2457bc036357.jpg" TargetMode="External"/><Relationship Id="rId4" Type="http://schemas.openxmlformats.org/officeDocument/2006/relationships/hyperlink" Target="http://i073.radikal.ru/1009/08/2457bc036357.jpg" TargetMode="External"/><Relationship Id="rId5" Type="http://schemas.openxmlformats.org/officeDocument/2006/relationships/hyperlink" Target="http://i073.radikal.ru/1009/08/2457bc036357.jpg" TargetMode="External"/><Relationship Id="rId6" Type="http://schemas.openxmlformats.org/officeDocument/2006/relationships/hyperlink" Target="http://www.stihi.ru/pics/2012/11/18/4325.jpg" TargetMode="External"/><Relationship Id="rId7" Type="http://schemas.openxmlformats.org/officeDocument/2006/relationships/hyperlink" Target="http://www.stihi.ru/pics/2012/11/18/4325.jpg" TargetMode="External"/><Relationship Id="rId8" Type="http://schemas.openxmlformats.org/officeDocument/2006/relationships/hyperlink" Target="http://www.interfotki.ru/content/photo/13/86/138616/xuzcai_cont.jpg" TargetMode="External"/><Relationship Id="rId9" Type="http://schemas.openxmlformats.org/officeDocument/2006/relationships/hyperlink" Target="http://www.interfotki.ru/content/photo/13/86/138616/xuzcai_cont.jpg" TargetMode="External"/><Relationship Id="rId10" Type="http://schemas.openxmlformats.org/officeDocument/2006/relationships/hyperlink" Target="http://vitaest-s.ru/wp-content/uploads/2012/07/Lozhnyie-gribyi12.jpg" TargetMode="External"/><Relationship Id="rId11" Type="http://schemas.openxmlformats.org/officeDocument/2006/relationships/hyperlink" Target="http://vitaest-s.ru/wp-content/uploads/2012/07/Lozhnyie-gribyi12.jpg" TargetMode="External"/><Relationship Id="rId12" Type="http://schemas.openxmlformats.org/officeDocument/2006/relationships/hyperlink" Target="http://s019.radikal.ru/i622/1206/0a/ce7483021053.jpg" TargetMode="External"/><Relationship Id="rId13" Type="http://schemas.openxmlformats.org/officeDocument/2006/relationships/hyperlink" Target="http://s019.radikal.ru/i622/1206/0a/ce7483021053.jpg" TargetMode="External"/><Relationship Id="rId14" Type="http://schemas.openxmlformats.org/officeDocument/2006/relationships/hyperlink" Target="http://metod-sunduchok.ucoz.ru/_ld/1/37100950.gif" TargetMode="External"/><Relationship Id="rId15" Type="http://schemas.openxmlformats.org/officeDocument/2006/relationships/hyperlink" Target="http://metod-sunduchok.ucoz.ru/_ld/1/37100950.gif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692280"/>
            <a:ext cx="5112000" cy="1728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8eb4e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Интерактивный кроссворд</a:t>
            </a:r>
            <a:br>
              <a:rPr sz="4000"/>
            </a:b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«Съедобные гриб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3280" y="4508280"/>
            <a:ext cx="45687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Автор- Костенко Н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учитель начальных класс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Б - Неклиновской СОШ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Ростов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Управляющая кнопка: сведения 5"/>
          <p:cNvGrpSpPr/>
          <p:nvPr/>
        </p:nvGrpSpPr>
        <p:grpSpPr>
          <a:xfrm>
            <a:off x="695160" y="6138720"/>
            <a:ext cx="981360" cy="658800"/>
            <a:chOff x="695160" y="6138720"/>
            <a:chExt cx="981360" cy="658800"/>
          </a:xfrm>
        </p:grpSpPr>
        <p:pic>
          <p:nvPicPr>
            <p:cNvPr id="51" name="Управляющая кнопка: сведения 5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695160" y="6138720"/>
              <a:ext cx="9813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55640" y="6176880"/>
              <a:ext cx="863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Управляющая кнопка: далее 2"/>
          <p:cNvGrpSpPr/>
          <p:nvPr/>
        </p:nvGrpSpPr>
        <p:grpSpPr>
          <a:xfrm>
            <a:off x="6602400" y="6138720"/>
            <a:ext cx="974880" cy="627120"/>
            <a:chOff x="6602400" y="6138720"/>
            <a:chExt cx="974880" cy="627120"/>
          </a:xfrm>
        </p:grpSpPr>
        <p:pic>
          <p:nvPicPr>
            <p:cNvPr id="54" name="Управляющая кнопка: далее 2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2400" y="6138720"/>
              <a:ext cx="9748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659640" y="617544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52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Управляющая кнопка: далее 6"/>
          <p:cNvGrpSpPr/>
          <p:nvPr/>
        </p:nvGrpSpPr>
        <p:grpSpPr>
          <a:xfrm>
            <a:off x="6669000" y="5694480"/>
            <a:ext cx="981000" cy="633240"/>
            <a:chOff x="6669000" y="5694480"/>
            <a:chExt cx="981000" cy="633240"/>
          </a:xfrm>
        </p:grpSpPr>
        <p:pic>
          <p:nvPicPr>
            <p:cNvPr id="58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6669000" y="5694480"/>
              <a:ext cx="9810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32720" y="5732640"/>
              <a:ext cx="8636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Рисунок 4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2436840" cy="2592360"/>
          </a:xfrm>
          <a:prstGeom prst="rect">
            <a:avLst/>
          </a:prstGeom>
          <a:ln w="0">
            <a:noFill/>
          </a:ln>
        </p:spPr>
      </p:pic>
      <p:sp>
        <p:nvSpPr>
          <p:cNvPr id="61" name="Скругленная прямоугольная выноска 7"/>
          <p:cNvSpPr/>
          <p:nvPr/>
        </p:nvSpPr>
        <p:spPr>
          <a:xfrm>
            <a:off x="3924360" y="1197000"/>
            <a:ext cx="4464000" cy="3024000"/>
          </a:xfrm>
          <a:prstGeom prst="wedgeRoundRectCallout">
            <a:avLst>
              <a:gd name="adj1" fmla="val -95212"/>
              <a:gd name="adj2" fmla="val 10671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дравствуйте, ребят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Я - Старичок-Лесовичок. Сегодня я хочу проверить, как вы знаете съедобные грибы. Давайте разгадаем с вами кроссвор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5"/>
          <p:cNvSpPr/>
          <p:nvPr/>
        </p:nvSpPr>
        <p:spPr>
          <a:xfrm>
            <a:off x="791352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0"/>
          <p:cNvSpPr/>
          <p:nvPr/>
        </p:nvSpPr>
        <p:spPr>
          <a:xfrm>
            <a:off x="7913520" y="136512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9"/>
          <p:cNvSpPr/>
          <p:nvPr/>
        </p:nvSpPr>
        <p:spPr>
          <a:xfrm>
            <a:off x="414972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33"/>
          <p:cNvSpPr/>
          <p:nvPr/>
        </p:nvSpPr>
        <p:spPr>
          <a:xfrm>
            <a:off x="4560840" y="491184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9"/>
          <p:cNvSpPr/>
          <p:nvPr/>
        </p:nvSpPr>
        <p:spPr>
          <a:xfrm>
            <a:off x="623556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Блок-схема: альтернативный процесс 1"/>
          <p:cNvSpPr/>
          <p:nvPr/>
        </p:nvSpPr>
        <p:spPr>
          <a:xfrm>
            <a:off x="484200" y="620640"/>
            <a:ext cx="514332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н в красной шапочке рас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реди корней осиновых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Его узнаешь за верст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овется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право 2"/>
          <p:cNvSpPr/>
          <p:nvPr/>
        </p:nvSpPr>
        <p:spPr>
          <a:xfrm>
            <a:off x="3056040" y="3282840"/>
            <a:ext cx="522360" cy="26352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065400" y="29415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Управляющая кнопка: далее 8"/>
          <p:cNvGrpSpPr/>
          <p:nvPr/>
        </p:nvGrpSpPr>
        <p:grpSpPr>
          <a:xfrm>
            <a:off x="6778800" y="5962680"/>
            <a:ext cx="938160" cy="627120"/>
            <a:chOff x="6778800" y="5962680"/>
            <a:chExt cx="938160" cy="627120"/>
          </a:xfrm>
        </p:grpSpPr>
        <p:pic>
          <p:nvPicPr>
            <p:cNvPr id="98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6778800" y="5962680"/>
              <a:ext cx="9381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37480" y="5997600"/>
              <a:ext cx="8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Рисунок 6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2449440" cy="2519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"/>
          <p:cNvPicPr/>
          <p:nvPr/>
        </p:nvPicPr>
        <p:blipFill>
          <a:blip r:embed="rId4"/>
          <a:stretch/>
        </p:blipFill>
        <p:spPr>
          <a:xfrm>
            <a:off x="484200" y="514440"/>
            <a:ext cx="356868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5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5"/>
          <p:cNvSpPr/>
          <p:nvPr/>
        </p:nvSpPr>
        <p:spPr>
          <a:xfrm>
            <a:off x="791352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0"/>
          <p:cNvSpPr/>
          <p:nvPr/>
        </p:nvSpPr>
        <p:spPr>
          <a:xfrm>
            <a:off x="7913520" y="136512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9"/>
          <p:cNvSpPr/>
          <p:nvPr/>
        </p:nvSpPr>
        <p:spPr>
          <a:xfrm>
            <a:off x="623556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Блок-схема: альтернативный процесс 1"/>
          <p:cNvSpPr/>
          <p:nvPr/>
        </p:nvSpPr>
        <p:spPr>
          <a:xfrm>
            <a:off x="406440" y="620640"/>
            <a:ext cx="5408640" cy="160992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тот гриб живет под ель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од ее огромной тен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удрый бородач-стар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Житель бора -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197240" y="22780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388800" y="484200"/>
            <a:ext cx="3532320" cy="2308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3940200" y="2278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Управляющая кнопка: далее 4"/>
          <p:cNvGrpSpPr/>
          <p:nvPr/>
        </p:nvGrpSpPr>
        <p:grpSpPr>
          <a:xfrm>
            <a:off x="6748560" y="6119640"/>
            <a:ext cx="1004760" cy="615960"/>
            <a:chOff x="6748560" y="6119640"/>
            <a:chExt cx="1004760" cy="615960"/>
          </a:xfrm>
        </p:grpSpPr>
        <p:pic>
          <p:nvPicPr>
            <p:cNvPr id="139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6748560" y="6119640"/>
              <a:ext cx="1004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810480" y="6157800"/>
              <a:ext cx="8856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Рисунок 7" descr=""/>
          <p:cNvPicPr/>
          <p:nvPr/>
        </p:nvPicPr>
        <p:blipFill>
          <a:blip r:embed="rId5"/>
          <a:stretch/>
        </p:blipFill>
        <p:spPr>
          <a:xfrm>
            <a:off x="228600" y="3570120"/>
            <a:ext cx="2448000" cy="25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5823000" y="4915080"/>
            <a:ext cx="4204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9"/>
          <p:cNvSpPr/>
          <p:nvPr/>
        </p:nvSpPr>
        <p:spPr>
          <a:xfrm>
            <a:off x="6243480" y="4915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 пеньке сидят брати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се - в веснушках шалуни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ти дружные ребя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зываются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635280" y="4078440"/>
            <a:ext cx="438120" cy="3283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3427560" y="3794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Управляющая кнопка: далее 5"/>
          <p:cNvGrpSpPr/>
          <p:nvPr/>
        </p:nvGrpSpPr>
        <p:grpSpPr>
          <a:xfrm>
            <a:off x="6486480" y="6066000"/>
            <a:ext cx="1054080" cy="633240"/>
            <a:chOff x="6486480" y="6066000"/>
            <a:chExt cx="1054080" cy="633240"/>
          </a:xfrm>
        </p:grpSpPr>
        <p:pic>
          <p:nvPicPr>
            <p:cNvPr id="178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86480" y="6066000"/>
              <a:ext cx="1054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546960" y="6102360"/>
              <a:ext cx="9381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Рисунок 6" descr=""/>
          <p:cNvPicPr/>
          <p:nvPr/>
        </p:nvPicPr>
        <p:blipFill>
          <a:blip r:embed="rId4"/>
          <a:stretch/>
        </p:blipFill>
        <p:spPr>
          <a:xfrm>
            <a:off x="250920" y="3492360"/>
            <a:ext cx="2517840" cy="2711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"/>
          <p:cNvPicPr/>
          <p:nvPr/>
        </p:nvPicPr>
        <p:blipFill>
          <a:blip r:embed="rId5"/>
          <a:stretch/>
        </p:blipFill>
        <p:spPr>
          <a:xfrm>
            <a:off x="433440" y="476280"/>
            <a:ext cx="35892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5400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26"/>
          <p:cNvSpPr/>
          <p:nvPr/>
        </p:nvSpPr>
        <p:spPr>
          <a:xfrm>
            <a:off x="4589640" y="4017960"/>
            <a:ext cx="42192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1"/>
          <p:cNvSpPr/>
          <p:nvPr/>
        </p:nvSpPr>
        <p:spPr>
          <a:xfrm>
            <a:off x="623556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3"/>
          <p:cNvSpPr/>
          <p:nvPr/>
        </p:nvSpPr>
        <p:spPr>
          <a:xfrm>
            <a:off x="457200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4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39"/>
          <p:cNvSpPr/>
          <p:nvPr/>
        </p:nvSpPr>
        <p:spPr>
          <a:xfrm>
            <a:off x="499428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тоят они в лесоч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 оранжевых носоч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илые сестрич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мя им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236760" y="4978440"/>
            <a:ext cx="438480" cy="328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3274200" y="4610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Управляющая кнопка: далее 2"/>
          <p:cNvGrpSpPr/>
          <p:nvPr/>
        </p:nvGrpSpPr>
        <p:grpSpPr>
          <a:xfrm>
            <a:off x="6802560" y="6022800"/>
            <a:ext cx="950760" cy="627120"/>
            <a:chOff x="6802560" y="6022800"/>
            <a:chExt cx="950760" cy="627120"/>
          </a:xfrm>
        </p:grpSpPr>
        <p:pic>
          <p:nvPicPr>
            <p:cNvPr id="218" name="Управляющая кнопка: далее 2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802560" y="6022800"/>
              <a:ext cx="9507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61240" y="6058080"/>
              <a:ext cx="8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" name="Рисунок 6" descr=""/>
          <p:cNvPicPr/>
          <p:nvPr/>
        </p:nvPicPr>
        <p:blipFill>
          <a:blip r:embed="rId4"/>
          <a:stretch/>
        </p:blipFill>
        <p:spPr>
          <a:xfrm>
            <a:off x="272880" y="3573360"/>
            <a:ext cx="2424240" cy="25876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"/>
          <p:cNvPicPr/>
          <p:nvPr/>
        </p:nvPicPr>
        <p:blipFill>
          <a:blip r:embed="rId5"/>
          <a:stretch/>
        </p:blipFill>
        <p:spPr>
          <a:xfrm>
            <a:off x="395280" y="476280"/>
            <a:ext cx="354348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5823000" y="4915080"/>
            <a:ext cx="4204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6"/>
          <p:cNvSpPr/>
          <p:nvPr/>
        </p:nvSpPr>
        <p:spPr>
          <a:xfrm>
            <a:off x="4589640" y="4017960"/>
            <a:ext cx="42192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34"/>
          <p:cNvSpPr/>
          <p:nvPr/>
        </p:nvSpPr>
        <p:spPr>
          <a:xfrm>
            <a:off x="4994280" y="491976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6243480" y="4915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н живет под елк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крытый их игол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ного у него братиш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ыжий гриб зовется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7945560" y="754200"/>
            <a:ext cx="371520" cy="495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 flipH="1">
            <a:off x="2770920" y="446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7624080" y="730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Управляющая кнопка: далее 5"/>
          <p:cNvGrpSpPr/>
          <p:nvPr/>
        </p:nvGrpSpPr>
        <p:grpSpPr>
          <a:xfrm>
            <a:off x="6626160" y="6022800"/>
            <a:ext cx="951120" cy="627120"/>
            <a:chOff x="6626160" y="6022800"/>
            <a:chExt cx="951120" cy="627120"/>
          </a:xfrm>
        </p:grpSpPr>
        <p:pic>
          <p:nvPicPr>
            <p:cNvPr id="25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626160" y="6022800"/>
              <a:ext cx="9511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688080" y="6058080"/>
              <a:ext cx="8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Рисунок 6" descr=""/>
          <p:cNvPicPr/>
          <p:nvPr/>
        </p:nvPicPr>
        <p:blipFill>
          <a:blip r:embed="rId4"/>
          <a:stretch/>
        </p:blipFill>
        <p:spPr>
          <a:xfrm>
            <a:off x="255600" y="3570120"/>
            <a:ext cx="2371680" cy="26020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7" descr=""/>
          <p:cNvPicPr/>
          <p:nvPr/>
        </p:nvPicPr>
        <p:blipFill>
          <a:blip r:embed="rId5"/>
          <a:stretch/>
        </p:blipFill>
        <p:spPr>
          <a:xfrm>
            <a:off x="395280" y="420840"/>
            <a:ext cx="3543480" cy="25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Управляющая кнопка: возврат 4"/>
          <p:cNvGrpSpPr/>
          <p:nvPr/>
        </p:nvGrpSpPr>
        <p:grpSpPr>
          <a:xfrm>
            <a:off x="6742080" y="5840280"/>
            <a:ext cx="981000" cy="633600"/>
            <a:chOff x="6742080" y="5840280"/>
            <a:chExt cx="981000" cy="633600"/>
          </a:xfrm>
        </p:grpSpPr>
        <p:pic>
          <p:nvPicPr>
            <p:cNvPr id="264" name="Управляющая кнопка: возврат 4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6742080" y="5840280"/>
              <a:ext cx="9810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804000" y="5877000"/>
              <a:ext cx="8636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6" name="Рисунок 5" descr=""/>
          <p:cNvPicPr/>
          <p:nvPr/>
        </p:nvPicPr>
        <p:blipFill>
          <a:blip r:embed="rId3"/>
          <a:stretch/>
        </p:blipFill>
        <p:spPr>
          <a:xfrm>
            <a:off x="374760" y="1104840"/>
            <a:ext cx="2660400" cy="29084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ая прямоугольная выноска 7"/>
          <p:cNvSpPr/>
          <p:nvPr/>
        </p:nvSpPr>
        <p:spPr>
          <a:xfrm>
            <a:off x="4140360" y="2276640"/>
            <a:ext cx="3816360" cy="2160360"/>
          </a:xfrm>
          <a:prstGeom prst="wedgeRoundRectCallout">
            <a:avLst>
              <a:gd name="adj1" fmla="val -102671"/>
              <a:gd name="adj2" fmla="val -42254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олодцы, ребят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иходите в лес за гриб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4"/>
          <p:cNvSpPr/>
          <p:nvPr/>
        </p:nvSpPr>
        <p:spPr>
          <a:xfrm>
            <a:off x="111600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784880" y="105264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нтернет- ресур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Управляющая кнопка: назад 1"/>
          <p:cNvGrpSpPr/>
          <p:nvPr/>
        </p:nvGrpSpPr>
        <p:grpSpPr>
          <a:xfrm>
            <a:off x="6815160" y="5931000"/>
            <a:ext cx="907920" cy="628560"/>
            <a:chOff x="6815160" y="5931000"/>
            <a:chExt cx="907920" cy="628560"/>
          </a:xfrm>
        </p:grpSpPr>
        <p:pic>
          <p:nvPicPr>
            <p:cNvPr id="271" name="Управляющая кнопка: назад 1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6815160" y="5931000"/>
              <a:ext cx="9079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875640" y="59659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Прямоугольник 3"/>
          <p:cNvSpPr/>
          <p:nvPr/>
        </p:nvSpPr>
        <p:spPr>
          <a:xfrm>
            <a:off x="1116000" y="157644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i073.radikal.ru/1009/08/2457bc036357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досино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stihi.ru/pics/2012/11/18/432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боро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interfotki.ru/content/photo/13/86/138616/xuzcai_cont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оп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vitaest-s.ru/wp-content/uploads/2012/07/Lozhnyie-gribyi1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лиси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s019.radikal.ru/i622/1206/0a/ce7483021053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-рыж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metod-sunduchok.ucoz.ru/_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d/1/37100950.gi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Старичок-Лесович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edsovet.su/load/321-1-0-3753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шаблон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zagadochki.ru/zagadki-pro-podosinovik-s-otvetami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загадки про гри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0:24:40Z</dcterms:created>
  <dc:creator>Denis</dc:creator>
  <dc:description/>
  <dc:language>en-US</dc:language>
  <cp:lastModifiedBy>User</cp:lastModifiedBy>
  <dcterms:modified xsi:type="dcterms:W3CDTF">2015-01-04T13:11:43Z</dcterms:modified>
  <cp:revision>62</cp:revision>
  <dc:subject/>
  <dc:title>Презентация PowerPoint</dc:title>
</cp:coreProperties>
</file>